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64325" cy="9802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63600" cy="980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67218-2691-4BCA-8FCD-4803D7F864C7}" type="datetime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80920" y="734760"/>
            <a:ext cx="4902480" cy="367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8480" y="4656240"/>
            <a:ext cx="488484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117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4960" y="93117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ECBBC-25C7-44A3-908F-299D73810DC3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3774960" y="93117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B75AC-1618-4CB0-BF25-E42B1DAF696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93117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C0728-8F18-49E8-B1D2-920D37BDEA54}" type="datetime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880920" y="735120"/>
            <a:ext cx="4902480" cy="367668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66720" y="4656240"/>
            <a:ext cx="532944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B40D-96AA-48BD-B923-2F12F99C0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D7A9-D799-4CF5-836F-7B7B7941F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036F-1CC2-4FAF-8E2B-545C5F71E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EA1D-63D8-4D25-8865-B8B6C711D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BCE2-1569-4BE5-B3E0-465ECE88D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DF75-3E12-428E-9743-477492410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6E3E-4BFC-4F8C-99A3-3DBA0C9AB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EC98-6A24-4368-ACE3-496666404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A049-C5C7-4220-820F-D213FEE24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889D-85C4-42A0-B79D-04F71CBDE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80C3-5B75-4A45-B6FF-DF3F80003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B4F8-98FA-43E4-88CE-ED756B796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C66D3-0455-4CC1-8B77-6C1B3AC3329C}" type="datetime">
              <a:rPr b="1" lang="en-GB" sz="12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09320" y="655308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51BDE-2F01-456C-A2BC-1829F6A9E879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3960" y="336528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Extracted from</a:t>
            </a:r>
            <a:br>
              <a:rPr sz="3200"/>
            </a:b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FAI  Amateur-built and Experimental Aircraft Commission  -  CIACA</a:t>
            </a:r>
            <a:br>
              <a:rPr sz="3200"/>
            </a:b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480060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31st Plenary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Paris ,  Aero Club de F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March 31st,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08000" y="189000"/>
          <a:ext cx="8926560" cy="597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89000"/>
                    <a:ext cx="8926560" cy="59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2636-4913-4D72-B335-A04E0247147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1C8B17-DDB1-4CF1-825F-11B41564E7B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51280" y="1700280"/>
            <a:ext cx="2189160" cy="2520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132000" y="4365720"/>
            <a:ext cx="4162680" cy="2163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227640" y="2567160"/>
            <a:ext cx="2541600" cy="1722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79280" y="189000"/>
            <a:ext cx="792180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FAI Gold Air Medal to Jon JOHANSON (Austral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three times round the world (1995,1996,2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both p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8000" y="3092400"/>
            <a:ext cx="392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00"/>
                </a:solidFill>
                <a:latin typeface="Times New Roman"/>
              </a:rPr>
              <a:t>www.vansaircraft.com/public/jj-persn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BA4B-33EC-4E5D-86C2-18E9FC8D6B19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EE5B39-8A92-4D28-8549-82CF2BBF937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9640" y="6669000"/>
            <a:ext cx="756144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675640" y="6669000"/>
            <a:ext cx="21744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1701720"/>
            <a:ext cx="84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101080" y="6165720"/>
            <a:ext cx="596880" cy="649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24000" y="0"/>
            <a:ext cx="784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imes New Roman"/>
              </a:rPr>
              <a:t>« The High Flyers Night 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49360"/>
            <a:ext cx="835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Arial"/>
              </a:rPr>
              <a:t>Paris, Palais du Luxembourg, 14 October 2005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64000" y="20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09640" y="22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927840" y="193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777000" y="10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43_High Flyers_m" descr=""/>
          <p:cNvPicPr/>
          <p:nvPr/>
        </p:nvPicPr>
        <p:blipFill>
          <a:blip r:embed="rId2"/>
          <a:stretch/>
        </p:blipFill>
        <p:spPr>
          <a:xfrm>
            <a:off x="2195640" y="884160"/>
            <a:ext cx="5184720" cy="345600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250920" y="4581360"/>
            <a:ext cx="2128680" cy="1634400"/>
            <a:chOff x="250920" y="4581360"/>
            <a:chExt cx="2128680" cy="1634400"/>
          </a:xfrm>
        </p:grpSpPr>
        <p:pic>
          <p:nvPicPr>
            <p:cNvPr id="69" name="42_High Flyers_m" descr=""/>
            <p:cNvPicPr/>
            <p:nvPr/>
          </p:nvPicPr>
          <p:blipFill>
            <a:blip r:embed="rId3"/>
            <a:stretch/>
          </p:blipFill>
          <p:spPr>
            <a:xfrm>
              <a:off x="322200" y="4581360"/>
              <a:ext cx="20574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250920" y="5878440"/>
              <a:ext cx="108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Buzz Aldrin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3598920" y="4437000"/>
            <a:ext cx="1944720" cy="2210400"/>
            <a:chOff x="3598920" y="4437000"/>
            <a:chExt cx="1944720" cy="2210400"/>
          </a:xfrm>
        </p:grpSpPr>
        <p:pic>
          <p:nvPicPr>
            <p:cNvPr id="72" name="40_Centenary Medal_m" descr=""/>
            <p:cNvPicPr/>
            <p:nvPr/>
          </p:nvPicPr>
          <p:blipFill>
            <a:blip r:embed="rId4"/>
            <a:stretch/>
          </p:blipFill>
          <p:spPr>
            <a:xfrm>
              <a:off x="3888000" y="4437000"/>
              <a:ext cx="1314360" cy="197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3598920" y="6310080"/>
              <a:ext cx="194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FAI Centenary Medal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443640" y="4581360"/>
            <a:ext cx="2449440" cy="1634400"/>
            <a:chOff x="6443640" y="4581360"/>
            <a:chExt cx="2449440" cy="1634400"/>
          </a:xfrm>
        </p:grpSpPr>
        <p:pic>
          <p:nvPicPr>
            <p:cNvPr id="75" name="41_High Flyers_m" descr=""/>
            <p:cNvPicPr/>
            <p:nvPr/>
          </p:nvPicPr>
          <p:blipFill>
            <a:blip r:embed="rId5"/>
            <a:stretch/>
          </p:blipFill>
          <p:spPr>
            <a:xfrm>
              <a:off x="6732720" y="4581360"/>
              <a:ext cx="20574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6443640" y="5878440"/>
              <a:ext cx="244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Steve Fossett &amp; Bertrand Piccard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108000" y="6467400"/>
            <a:ext cx="25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685800" y="609480"/>
          <a:ext cx="7772400" cy="5505480"/>
        </p:xfrm>
        <a:graphic>
          <a:graphicData uri="http://schemas.openxmlformats.org/drawingml/2006/table">
            <a:tbl>
              <a:tblPr/>
              <a:tblGrid>
                <a:gridCol w="1492200"/>
                <a:gridCol w="1841400"/>
                <a:gridCol w="3586320"/>
                <a:gridCol w="852480"/>
              </a:tblGrid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Discipl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No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erformanc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érost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ertrand Piccar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r>
                        <a:rPr b="0" lang="fr-FR" sz="900" spc="-1" strike="noStrike" baseline="30000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er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 Tour du monde en ballon+ records altitude et durée en 19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erostation (gaz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F &amp; V Le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ainqueurs de4 coupes Gordon Bennet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stronomi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udoin Dollf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viation 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teve Fosset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Tour du monde en ballon  et en avion en solo et sans esca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Espa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alery Poliako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spatial prolongé 437 jours 18 heur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uzz Aldr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1er équipage sur la lu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Giravi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ean Boule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ecord du monde d'altitude en hélic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gral Valérie Andr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Nombreuses missions de sauveta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rachutis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eryl Stear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ultiples records du monde en chute li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rachutis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J Wor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réateur du saut en "free style" et "canopy piloting", organisateur des + grands evenements de parachutisme.  Cascades de James Bo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à Voi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Klaus Ohlman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lusieurs records du monde, dont celui 3000 k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Li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anfred Ruhm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ampion du Monde en 1999 et d’Europe en 1998. + CdM Speedgliding 2003 + record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en planeu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erzy Makul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6 X champion du monde et 2 X d'Europe en voltige planeu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o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av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atherine Maunou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2 fois CdM Volti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av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vetlana Kapanin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5 fois CdM Volti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L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ike Blyth + Olivier Aube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lusieurs records du monde et voyages en pendulai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A + 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T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Luc Trullema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outeur des courses en ball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1835280" y="836640"/>
            <a:ext cx="662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124000" y="142704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09960" y="253512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125800" y="30114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22560" y="50706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1125360"/>
            <a:ext cx="777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49EF-FC53-4235-BA34-4D6E9B381934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964D71-51B6-4CC9-B0B2-27E89A0D484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66560" y="403560"/>
            <a:ext cx="820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Times New Roman"/>
              </a:rPr>
              <a:t>Lausanne 27/28.August. The EAS was present there to inform about the amateur built section of aviation, the public interest was very high and a lot of interest was generated, we had inside an aircraft under construction (Kitfox) and a Bruegger Colibri, outside in the static display was a Slepcev Storck, a Cherry and a RV-6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658880" y="2276640"/>
            <a:ext cx="5826240" cy="3735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14D1-446E-4F2E-B55B-C5A6581A26F1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4D1DCD-01B5-418B-8B71-4166B9A6988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ffff00"/>
                </a:solidFill>
                <a:latin typeface="Times New Roman"/>
              </a:rPr>
              <a:t>MERCI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00"/>
                </a:solidFill>
                <a:latin typeface="Times New Roman"/>
              </a:rPr>
              <a:t>FAI thanks the Aero Club de France for helping us to celebrate the Centenary in style, and for hosting the CIACA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8771-473C-4962-A55F-1446F59B8EE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E447D5-04BF-4E75-B453-CB571C6C614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New economic racing class p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roject </a:t>
            </a:r>
            <a:br>
              <a:rPr sz="2400"/>
            </a:b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(part of the Bleu Citron progr.)</a:t>
            </a:r>
            <a:br>
              <a:rPr sz="2400"/>
            </a:b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Presented by Mr. Frédéric Hubschwerlen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34800" y="1197000"/>
            <a:ext cx="4237200" cy="25588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714920" y="1197000"/>
            <a:ext cx="4238640" cy="2560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395280" y="3905280"/>
            <a:ext cx="4176720" cy="25225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4740120" y="3906720"/>
            <a:ext cx="4176720" cy="252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ED0F-D7F9-4DB1-BABA-3BE8B846067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7E4E54-ED63-4568-BAA5-20DD8146AF9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IACA Web S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First experience with the CMS  (From Werner Schneider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we have finally access to add, edit content on the webpage, we can al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add more editors by ourself,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is is a real progre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the first steps were promising (I was able to add some content) 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ierry does this as a course I have not yet all information I wou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like to have but thats just a matter of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ill fated non working database is finally go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CMS is very powerful and does help to align content in a way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web has a corporate design, this is a very good move. We will s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how this develops and I hope the approach to have from each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each year at least one little story to present will make the CIACA We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more aliv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1211-8FA0-4292-BF86-AE4A1322174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55459B-83C8-4BBC-9A4E-04B5899C624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8T16:15:20Z</dcterms:created>
  <dc:creator>UAA15B0</dc:creator>
  <dc:description/>
  <dc:language>en-US</dc:language>
  <cp:lastModifiedBy> </cp:lastModifiedBy>
  <dcterms:modified xsi:type="dcterms:W3CDTF">2006-08-22T13:59:23Z</dcterms:modified>
  <cp:revision>100</cp:revision>
  <dc:subject/>
  <dc:title>Presentazione di PowerPoint</dc:title>
</cp:coreProperties>
</file>